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E2E-3359-4312-8A6C-F12627D5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30E-03C4-4D60-A566-6FA4E26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D1C-8A11-4663-8037-9EB7C87A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F2A-57EB-4403-AA75-24BCFE57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BEB-CB23-4D9C-915A-1FB6A256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669-6FD0-473D-AFE6-61825462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2A5-90D9-4AAF-B70D-7E9FE702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A29-0BC0-40EE-9140-D8102A3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2F4-4584-4145-99B1-21575BF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C71-1BAF-4950-825E-BB98F5D0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B82-3591-41D7-87BC-7B1C436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763-05F7-45C2-B468-4DA34B4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D5A-FB66-4B89-8121-9C43448E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9360"/>
            <a:ext cx="9142560" cy="77720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Baskerville Old Face"/>
                <a:ea typeface="Arial"/>
              </a:rPr>
              <a:t>Кога Израел в Египет б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Baskerville Old Face"/>
                <a:ea typeface="Arial"/>
              </a:rPr>
              <a:t>Пусни народа 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Baskerville Old Face"/>
                <a:ea typeface="Arial"/>
              </a:rPr>
              <a:t>Във робство той се мъчеш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Baskerville Old Face"/>
                <a:ea typeface="Arial"/>
              </a:rPr>
              <a:t>Пусни народа 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5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Тръгвай, Мойсей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Слез във Египет т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И кажи на Фараон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Тъй каза Той на фараон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Така ти казва Господ Бог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Тръгвай, Мойсей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Слез във Египет т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И кажи на Фараон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Не ще се мъчат повеч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От робство ще излязат т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2168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Тръгвай, Мойсей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Слез във Египет т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И кажи на Фараон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От робство в гря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Бог ни спас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И чрез Исус освобод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2168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Тръгвай, Мойсей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Слез във Египет т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И кажи на Фараон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Arial"/>
                <a:ea typeface="Arial"/>
              </a:rPr>
              <a:t>пусни народа Ми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27:17Z</dcterms:created>
  <dc:creator>TrifonTrifonow</dc:creator>
  <dc:description/>
  <dc:language>en-US</dc:language>
  <cp:lastModifiedBy>TrifonTrifonow</cp:lastModifiedBy>
  <dcterms:modified xsi:type="dcterms:W3CDTF">2005-10-29T20:01:30Z</dcterms:modified>
  <cp:revision>7</cp:revision>
  <dc:subject/>
  <dc:title>Slide 1</dc:title>
</cp:coreProperties>
</file>